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B6D-90DC-468E-ABD3-9D20D8EC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516-0694-43FB-9B7E-D8C96564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528-1A53-458E-9856-28964766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067-7DE5-491D-B6CC-590B318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28F-388D-400A-A436-9C20551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A88-EA86-455D-B1FD-DFBF6794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48A-0605-4CCE-8FC3-14725185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41F-1193-4992-8F74-7B3D5B2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7F0-2FBE-4EC8-844C-8EA8E0F1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D69-0F0F-483F-B7B7-20348794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B72-246E-4A1A-92BB-16D70E1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4C1-3FE7-4F24-A81F-6CC4B6FD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EDF-8C93-4763-ADDE-EA5052A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658-71CF-4A2B-937C-A3B343B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1AA-BE9D-4336-BD2C-8EBC52355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3124080"/>
            <a:ext cx="7848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multiply a monomial and a poly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96388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add the exponent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Simplify:  5(7n -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• 7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5n -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 When multiplying variab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rc 4"/>
          <p:cNvSpPr/>
          <p:nvPr/>
        </p:nvSpPr>
        <p:spPr>
          <a:xfrm flipH="1">
            <a:off x="5257800" y="251604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rc 5"/>
          <p:cNvSpPr/>
          <p:nvPr/>
        </p:nvSpPr>
        <p:spPr>
          <a:xfrm flipH="1">
            <a:off x="5257080" y="2438280"/>
            <a:ext cx="1219320" cy="228600"/>
          </a:xfrm>
          <a:custGeom>
            <a:avLst/>
            <a:gdLst/>
            <a:ahLst/>
            <a:rect l="l" t="t" r="r" b="b"/>
            <a:pathLst>
              <a:path fill="none" w="43200" h="24314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4314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24840" y="4022640"/>
            <a:ext cx="14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•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2"/>
          <p:cNvGraphicFramePr/>
          <p:nvPr/>
        </p:nvGraphicFramePr>
        <p:xfrm>
          <a:off x="3809880" y="609480"/>
          <a:ext cx="22561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609480"/>
                    <a:ext cx="22561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38862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implify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6a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+ 9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Simplif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rs(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-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rs • 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6r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s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- 18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rc 7"/>
          <p:cNvSpPr/>
          <p:nvPr/>
        </p:nvSpPr>
        <p:spPr>
          <a:xfrm flipH="1">
            <a:off x="4313160" y="76356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rc 8"/>
          <p:cNvSpPr/>
          <p:nvPr/>
        </p:nvSpPr>
        <p:spPr>
          <a:xfrm flipH="1">
            <a:off x="4313160" y="609480"/>
            <a:ext cx="1370160" cy="363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3049560" y="1676520"/>
          <a:ext cx="1293840" cy="114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560" y="1676520"/>
                    <a:ext cx="1293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3"/>
          <p:cNvGraphicFramePr/>
          <p:nvPr/>
        </p:nvGraphicFramePr>
        <p:xfrm>
          <a:off x="4290840" y="1676520"/>
          <a:ext cx="1590840" cy="114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0840" y="1676520"/>
                    <a:ext cx="1590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4"/>
          <p:cNvSpPr/>
          <p:nvPr/>
        </p:nvSpPr>
        <p:spPr>
          <a:xfrm>
            <a:off x="4394160" y="483084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6rs •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rc 15"/>
          <p:cNvSpPr/>
          <p:nvPr/>
        </p:nvSpPr>
        <p:spPr>
          <a:xfrm flipH="1">
            <a:off x="4038480" y="4191120"/>
            <a:ext cx="609840" cy="13968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rc 16"/>
          <p:cNvSpPr/>
          <p:nvPr/>
        </p:nvSpPr>
        <p:spPr>
          <a:xfrm flipH="1">
            <a:off x="4049640" y="4037040"/>
            <a:ext cx="1589040" cy="334800"/>
          </a:xfrm>
          <a:custGeom>
            <a:avLst/>
            <a:gdLst/>
            <a:ahLst/>
            <a:rect l="l" t="t" r="r" b="b"/>
            <a:pathLst>
              <a:path fill="none" w="42578" h="21600">
                <a:moveTo>
                  <a:pt x="0" y="18005"/>
                </a:moveTo>
                <a:cubicBezTo>
                  <a:pt x="1754" y="7609"/>
                  <a:pt x="10756" y="-1"/>
                  <a:pt x="21299" y="0"/>
                </a:cubicBezTo>
                <a:cubicBezTo>
                  <a:pt x="31796" y="0"/>
                  <a:pt x="40773" y="7546"/>
                  <a:pt x="42577" y="17888"/>
                </a:cubicBezTo>
              </a:path>
              <a:path stroke="0" w="42578" h="21600">
                <a:moveTo>
                  <a:pt x="0" y="18005"/>
                </a:moveTo>
                <a:cubicBezTo>
                  <a:pt x="1754" y="7609"/>
                  <a:pt x="10756" y="-1"/>
                  <a:pt x="21299" y="0"/>
                </a:cubicBezTo>
                <a:cubicBezTo>
                  <a:pt x="31796" y="0"/>
                  <a:pt x="40773" y="7546"/>
                  <a:pt x="42577" y="17888"/>
                </a:cubicBezTo>
                <a:lnTo>
                  <a:pt x="21299" y="21600"/>
                </a:lnTo>
                <a:lnTo>
                  <a:pt x="0" y="1800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Simplify:  4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t -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2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4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 Simplify:  - 4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m - 6n + 4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2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4"/>
          <p:cNvSpPr/>
          <p:nvPr/>
        </p:nvSpPr>
        <p:spPr>
          <a:xfrm flipH="1">
            <a:off x="4497480" y="76356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rc 5"/>
          <p:cNvSpPr/>
          <p:nvPr/>
        </p:nvSpPr>
        <p:spPr>
          <a:xfrm flipH="1">
            <a:off x="4498920" y="608040"/>
            <a:ext cx="1736640" cy="334800"/>
          </a:xfrm>
          <a:custGeom>
            <a:avLst/>
            <a:gdLst/>
            <a:ahLst/>
            <a:rect l="l" t="t" r="r" b="b"/>
            <a:pathLst>
              <a:path fill="none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</a:path>
              <a:path stroke="0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  <a:lnTo>
                  <a:pt x="21259" y="21600"/>
                </a:lnTo>
                <a:lnTo>
                  <a:pt x="0" y="17776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6"/>
          <p:cNvSpPr/>
          <p:nvPr/>
        </p:nvSpPr>
        <p:spPr>
          <a:xfrm flipH="1">
            <a:off x="4495680" y="608040"/>
            <a:ext cx="2578320" cy="334800"/>
          </a:xfrm>
          <a:custGeom>
            <a:avLst/>
            <a:gdLst/>
            <a:ahLst/>
            <a:rect l="l" t="t" r="r" b="b"/>
            <a:pathLst>
              <a:path fill="none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</a:path>
              <a:path stroke="0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  <a:lnTo>
                  <a:pt x="21400" y="21600"/>
                </a:lnTo>
                <a:lnTo>
                  <a:pt x="0" y="1866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204440" y="1812960"/>
            <a:ext cx="11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8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00080" y="1812960"/>
            <a:ext cx="13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20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rc 9"/>
          <p:cNvSpPr/>
          <p:nvPr/>
        </p:nvSpPr>
        <p:spPr>
          <a:xfrm flipH="1">
            <a:off x="4649760" y="3048120"/>
            <a:ext cx="836640" cy="18720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rc 10"/>
          <p:cNvSpPr/>
          <p:nvPr/>
        </p:nvSpPr>
        <p:spPr>
          <a:xfrm flipH="1">
            <a:off x="4651200" y="2941560"/>
            <a:ext cx="2052720" cy="335160"/>
          </a:xfrm>
          <a:custGeom>
            <a:avLst/>
            <a:gdLst/>
            <a:ahLst/>
            <a:rect l="l" t="t" r="r" b="b"/>
            <a:pathLst>
              <a:path fill="none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</a:path>
              <a:path stroke="0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  <a:lnTo>
                  <a:pt x="21259" y="21600"/>
                </a:lnTo>
                <a:lnTo>
                  <a:pt x="0" y="17776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rc 11"/>
          <p:cNvSpPr/>
          <p:nvPr/>
        </p:nvSpPr>
        <p:spPr>
          <a:xfrm flipH="1">
            <a:off x="4648320" y="2941560"/>
            <a:ext cx="3047760" cy="335160"/>
          </a:xfrm>
          <a:custGeom>
            <a:avLst/>
            <a:gdLst/>
            <a:ahLst/>
            <a:rect l="l" t="t" r="r" b="b"/>
            <a:pathLst>
              <a:path fill="none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</a:path>
              <a:path stroke="0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  <a:lnTo>
                  <a:pt x="21400" y="21600"/>
                </a:lnTo>
                <a:lnTo>
                  <a:pt x="0" y="1866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519360" y="447984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24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5463000" y="447984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16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)  Simplify:       (27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6x + 1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- 28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4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oled ya, didn’t I?!? Ha! H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e’s the real answ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9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- 4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000680" y="723960"/>
          <a:ext cx="6476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723960"/>
                    <a:ext cx="6476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4y(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4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161640" y="411588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x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rShape1"/>
          <p:cNvSpPr/>
          <p:nvPr/>
        </p:nvSpPr>
        <p:spPr>
          <a:xfrm rot="10800000">
            <a:off x="-66600" y="19206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Cynthia H. Morgan</cp:lastModifiedBy>
  <dcterms:modified xsi:type="dcterms:W3CDTF">2013-03-14T14:25:09Z</dcterms:modified>
  <cp:revision>13</cp:revision>
  <dc:subject/>
  <dc:title>Multiplying a Monomial and Polynomials</dc:title>
</cp:coreProperties>
</file>